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D51-F7AF-4BB3-9143-58F29B0E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E6B-EFDC-42F9-A9D4-79300276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6A66-995A-4080-B754-9069BD05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C62-F40E-4787-BD82-5A7871B2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DE3-A22D-4624-AC26-CBB967B7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AD12-7367-4ECB-8AE7-BE725839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08B-520E-4AE2-8790-DF5976FC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E50-9EA6-440D-AD67-61AB68A1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C716-EF2A-43D3-80E7-CB71C1AA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873A-84BD-4383-8C68-C93CBDBC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F02-78E5-495D-9219-E1039CA6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C252-AEBD-4CA1-B67B-DD8E8610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BBAD-E04F-4485-8966-EC841C1BEEB1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2571840" y="2571840"/>
            <a:ext cx="42148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RACIA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286000" y="2071800"/>
            <a:ext cx="485784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básic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2010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642960" y="138564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y Gastos de la Entidad para la Vigencia Fiscal 2010 guarda concordancia con el Plan Nacional de Desarrollo Ambiental, el Plan de Gestión Ambiental Regional y el Plan de Acción Ajustado 2007-2011 de la Entidad</a:t>
            </a:r>
            <a:r>
              <a:rPr b="0" lang="es-CO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474840" y="379440"/>
            <a:ext cx="3025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187280" y="1285200"/>
            <a:ext cx="666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de la Entidad para la Vigencia Fiscal 2010 asciende a la su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33.599.463 miles distribuidos así:</a:t>
            </a:r>
            <a:r>
              <a:rPr b="0" lang="es-CO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85920" y="2643120"/>
          <a:ext cx="6626160" cy="2683080"/>
        </p:xfrm>
        <a:graphic>
          <a:graphicData uri="http://schemas.openxmlformats.org/drawingml/2006/table">
            <a:tbl>
              <a:tblPr/>
              <a:tblGrid>
                <a:gridCol w="3241800"/>
                <a:gridCol w="2303280"/>
                <a:gridCol w="10810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bre tasa 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195.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Bienes y Serv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2.1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rtes Otras Ent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895.6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56.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dimien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9.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Ac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GRESOS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599.4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474840" y="450720"/>
            <a:ext cx="302544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58" name="Object 16"/>
          <p:cNvGraphicFramePr/>
          <p:nvPr/>
        </p:nvGraphicFramePr>
        <p:xfrm>
          <a:off x="1785960" y="1285920"/>
          <a:ext cx="5616720" cy="4541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5960" y="1285920"/>
                    <a:ext cx="561672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1"/>
          <p:cNvSpPr/>
          <p:nvPr/>
        </p:nvSpPr>
        <p:spPr>
          <a:xfrm>
            <a:off x="5865840" y="128520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Venta de Activ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322200" y="39380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Aportes Otras Entidade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393840" y="2640960"/>
            <a:ext cx="156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Otros Ingres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2008080" y="1561320"/>
            <a:ext cx="15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Rendimientos Financier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1185840" y="5233320"/>
            <a:ext cx="15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Venta de Bienes y Servici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6946920" y="357768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Sobre tasa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476280" y="423720"/>
            <a:ext cx="30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Funcionamient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468360" y="146916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8.235.534 miles distribuidos así:</a:t>
            </a:r>
            <a:r>
              <a:rPr b="0" lang="es-CO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2"/>
          <a:srcRect l="9394" t="5194" r="9370" b="8066"/>
          <a:stretch/>
        </p:blipFill>
        <p:spPr>
          <a:xfrm>
            <a:off x="2143080" y="2071800"/>
            <a:ext cx="5022720" cy="3219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 rot="192000">
            <a:off x="2340000" y="3016080"/>
            <a:ext cx="150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 Rounded MT Bold"/>
              </a:rPr>
              <a:t>Transferencias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2843280" y="42771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 Rounded MT Bold"/>
              </a:rPr>
              <a:t>Gastos Generales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4788000" y="371988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astos de Personal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2143080" y="5357880"/>
            <a:ext cx="535788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La distribución porcentual es con base en que Funcionamiento es el 100%.</a:t>
            </a:r>
            <a:r>
              <a:rPr b="0" lang="es-CO" sz="9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00"/>
          <p:cNvSpPr txBox="1"/>
          <p:nvPr/>
        </p:nvSpPr>
        <p:spPr>
          <a:xfrm>
            <a:off x="1690560" y="352440"/>
            <a:ext cx="30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versión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71720" y="1214280"/>
          <a:ext cx="4286160" cy="4286520"/>
        </p:xfrm>
        <a:graphic>
          <a:graphicData uri="http://schemas.openxmlformats.org/drawingml/2006/table">
            <a:tbl>
              <a:tblPr/>
              <a:tblGrid>
                <a:gridCol w="2286000"/>
                <a:gridCol w="1214280"/>
                <a:gridCol w="785880"/>
              </a:tblGrid>
              <a:tr h="50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 [miles de peso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ficación Ambiental en la Gest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1.9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ón Integrada del Recurso Híd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52.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ocimiento, Conservación y Uso Sostenible de los RN y la Biodivers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1.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ción de Procesos Productivos Competitivos y Sosteni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6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ención y Control de la Degradac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549.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SINA para la Gobernabilidad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87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ver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559.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5 Gráfico" descr=""/>
          <p:cNvPicPr/>
          <p:nvPr/>
        </p:nvPicPr>
        <p:blipFill>
          <a:blip r:embed="rId2"/>
          <a:stretch/>
        </p:blipFill>
        <p:spPr>
          <a:xfrm>
            <a:off x="5425920" y="1206360"/>
            <a:ext cx="351000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2:58:18Z</dcterms:modified>
  <cp:revision>4</cp:revision>
  <dc:subject/>
  <dc:title>Diapositiva 1</dc:title>
</cp:coreProperties>
</file>